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935D-0DD9-4490-A611-8A9B599D00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about 1 hr: speaking 1 – 10 mins; grammar – 15 mins; reading – 15 mins; speaking 2 – 2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7916-D669-4012-B449-EAAAB28741E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all true except 2 (voting is not mandatory in Germ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DC9D-E5A8-4747-9A9E-7841773D2F3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understanding of structures with concept questions and drill where necessary. Then allow learners to discuss and note down errors for post task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E4F9-BBB4-4571-902E-E925FA74AF87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print out the article, or get learners to read it online. If reading a paper copy, learners could underline or highlight all the points they want to reme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15C4-DE4B-4F41-8DFC-0ECA21B218D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leave the compulsory/optional language on the board/wall for learners to refer to. If time, re-pair learners so they can repeat the argument with different partners. Monitor for errors and note them down for post task error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t learners tell each other at the end which arguments they really do agree wi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A9C9-DA20-4647-9069-EA54BAC786A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FD06-DE63-42E3-B757-D12E7C70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29AA-0C00-47E0-A8B2-8C1FC74C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4528-1649-4BA1-927B-096E734F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1ED-1EFF-410B-BD1C-B8C34BB4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8D47-1DDB-4610-ACC4-BECCBB2F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588-ECDD-4E9B-943D-CB529DBF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50F-BEEC-4386-8E69-7A8891EA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CD0-E833-40C0-998E-6260693D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189E-940F-47BF-812E-37CFBD21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FCC0-94B4-4B26-8390-2B79F77A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3DE-11F5-4D1A-97BD-00A37569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AD7F-4D54-4089-B13E-17090BA5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3ED0-4885-49DB-8A6C-D15BCA6E8B68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Is_it_a_good_idea_to_say_that_everyone_must_vote%3F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ewint.org/sections/argument/2015/03/18/uri-220.jp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ffffff"/>
                </a:solidFill>
                <a:latin typeface="Calibri"/>
              </a:rPr>
              <a:t>Voting</a:t>
            </a:r>
            <a:endParaRPr b="0" lang="en-US" sz="1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24000" y="4437000"/>
            <a:ext cx="48956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Calibri"/>
              </a:rPr>
              <a:t>NEW INTERNATIONALIST  EASIER ENGLISH INTERMEDIATE READY LESS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601668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4920" y="3933720"/>
            <a:ext cx="379584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Grammar – </a:t>
            </a: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how to say things are optional and compulsor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Speaking – </a:t>
            </a:r>
            <a:r>
              <a:rPr b="1" lang="en-GB" sz="4400" spc="-1" strike="noStrike">
                <a:solidFill>
                  <a:srgbClr val="ffc000"/>
                </a:solidFill>
                <a:latin typeface="Calibri"/>
              </a:rPr>
              <a:t>about voting in different countries, and if voting should be compulsory or n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Reading – </a:t>
            </a:r>
            <a:r>
              <a:rPr b="1" lang="en-GB" sz="4400" spc="-1" strike="noStrike">
                <a:solidFill>
                  <a:srgbClr val="ffff00"/>
                </a:solidFill>
                <a:latin typeface="Calibri"/>
              </a:rPr>
              <a:t>an argu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rue or false? - general elections?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the UK, voting is optional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Everyone has to vote in German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only vote if you want to in Franc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ing is compulsory in Brazil if you’re between 18 and 70, but you can vote if you like if you’re 16, 17 or over 70 (if you are literate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are fined if you don’t vote in some countri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must vote in Australia because it’s mandator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don’t have a choice whether to vote or not in Argentina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hat do you notice about the underlined language?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the UK, voting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is optional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Everyone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has to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e in German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only vote if you want to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Franc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ing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is compulsory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Brazil if you’re between 18 and 70, but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you can vote if you like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f you’re 16, 17 or over 70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are fined if you don’t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e in some countri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must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 vote in Australia because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it’s mandatory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don’t have a choice whether to vote or not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Argentina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don’t have to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e in Spai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Discuss your country and other countries – which do you think is best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560" y="1600200"/>
            <a:ext cx="42447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ing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is compuls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have to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Everyone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has to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are fined if you don’t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must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ing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is mandat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don’t have a choice whether to vote or no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Voting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is option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only vote if you want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can vote if you li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don’t have to 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Read this article: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Calibri"/>
              </a:rPr>
              <a:t>“Is it a good idea to make everyone vote?”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Group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– find all th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YES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arguments                       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Group </a:t>
            </a:r>
            <a:r>
              <a:rPr b="0" lang="en-GB" sz="4400" spc="-1" strike="noStrike">
                <a:solidFill>
                  <a:srgbClr val="00b0f0"/>
                </a:solidFill>
                <a:latin typeface="Calibri"/>
              </a:rPr>
              <a:t>B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– find all the </a:t>
            </a:r>
            <a:r>
              <a:rPr b="1" lang="en-GB" sz="4400" spc="-1" strike="noStrike">
                <a:solidFill>
                  <a:srgbClr val="00b0f0"/>
                </a:solidFill>
                <a:latin typeface="Calibri"/>
              </a:rPr>
              <a:t>NO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argu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522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49100"/>
                </a:solidFill>
                <a:uFillTx/>
                <a:latin typeface="Calibri"/>
                <a:hlinkClick r:id="rId1"/>
              </a:rPr>
              <a:t>http://eewiki.newint.org/index.php/Is_it_a_good_idea_to_say_that_everyone_must_vote%3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7308720" y="549360"/>
            <a:ext cx="1636920" cy="223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7277040" y="3141720"/>
            <a:ext cx="16239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Now divide into pairs – A&amp;B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1413000"/>
            <a:ext cx="41716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A –     you think voting should be compulsory – try to persuade B with all the reasons you found in the tex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413000"/>
            <a:ext cx="4171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000"/>
                </a:solidFill>
                <a:latin typeface="Calibri"/>
              </a:rPr>
              <a:t>B – you think voting should be optional – try to persuade A with all the arguments you found in the tex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Homework: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07720"/>
            <a:ext cx="82296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Choice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alibri"/>
              </a:rPr>
              <a:t>Reading</a:t>
            </a: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: read the original argument: </a:t>
            </a:r>
            <a:r>
              <a:rPr b="0" lang="en-GB" sz="4000" spc="-1" strike="noStrike" u="sng">
                <a:solidFill>
                  <a:srgbClr val="f49100"/>
                </a:solidFill>
                <a:uFillTx/>
                <a:latin typeface="Calibri"/>
                <a:hlinkClick r:id="rId1"/>
              </a:rPr>
              <a:t>http://www.newint.org/sections/argument/2015/03/18/uri-220.jp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or (and?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alibri"/>
              </a:rPr>
              <a:t>Writing</a:t>
            </a: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: write an article for a magazine about what you really think: “Should voting be compulsory?”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6227640" y="115920"/>
            <a:ext cx="27133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3T15:10:39Z</dcterms:created>
  <dc:creator>Linda Ruas</dc:creator>
  <dc:description/>
  <dc:language>en-US</dc:language>
  <cp:lastModifiedBy>Linda Ruas</cp:lastModifiedBy>
  <dcterms:modified xsi:type="dcterms:W3CDTF">2015-04-23T16:09:06Z</dcterms:modified>
  <cp:revision>7</cp:revision>
  <dc:subject/>
  <dc:title>Voting</dc:title>
</cp:coreProperties>
</file>